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C229-2A7F-486C-B1F5-37A9E0400B2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7EA4-9CCB-4804-96E2-1205CEB61C8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80F19-C806-40F9-935B-7CB487981B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AD7B-51CC-4D1C-BE00-E993FA94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58C1F-EFB2-481B-B3C9-E29CD821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6A848-B92D-4F1A-88A0-F03F1A81F4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D1CE-E85A-4611-8C97-EF1DE9C9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84DA-FE72-4B7F-8147-FA70C006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42395-7332-4BD4-A94E-2AF4AC10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F8FD-1671-4185-8AC0-B76B5C3F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9345-E2AA-4F9C-A8CA-EF493FABB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94B9-23A6-4CC1-A4C2-213DDB09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4662-1B4A-4D58-9760-E5DDE1EA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40FB-381D-4074-AC65-E46315F4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D2F9-966B-4C18-B6A3-4F927FDC5E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76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1"/>
          <a:srcRect l="3210" t="4517" r="6983" b="10903"/>
          <a:stretch/>
        </p:blipFill>
        <p:spPr>
          <a:xfrm>
            <a:off x="760320" y="1557360"/>
            <a:ext cx="7864560" cy="3720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4"/>
          <p:cNvSpPr/>
          <p:nvPr/>
        </p:nvSpPr>
        <p:spPr>
          <a:xfrm>
            <a:off x="3627000" y="5508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右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rcRect l="4567" t="3848" r="9956" b="8390"/>
          <a:stretch/>
        </p:blipFill>
        <p:spPr>
          <a:xfrm>
            <a:off x="900000" y="1341360"/>
            <a:ext cx="3240360" cy="395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"/>
          <p:cNvPicPr/>
          <p:nvPr/>
        </p:nvPicPr>
        <p:blipFill>
          <a:blip r:embed="rId2"/>
          <a:srcRect l="4559" t="4482" r="9997" b="7646"/>
          <a:stretch/>
        </p:blipFill>
        <p:spPr>
          <a:xfrm>
            <a:off x="5148360" y="1550880"/>
            <a:ext cx="3138480" cy="374652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1996200" y="5521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横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5787360" y="5521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左半结肠切除术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1160" y="1197000"/>
            <a:ext cx="3745080" cy="4578480"/>
          </a:xfrm>
          <a:prstGeom prst="rect">
            <a:avLst/>
          </a:prstGeom>
          <a:ln w="0">
            <a:noFill/>
          </a:ln>
        </p:spPr>
      </p:pic>
      <p:sp>
        <p:nvSpPr>
          <p:cNvPr id="149" name="矩形 4"/>
          <p:cNvSpPr/>
          <p:nvPr/>
        </p:nvSpPr>
        <p:spPr>
          <a:xfrm>
            <a:off x="4077720" y="5940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单纯乙状结肠切除范围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会阴联合直肠癌根治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Miles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Dix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腹直肠癌切除、近端造口、远端封闭手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artman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257640" cy="4449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686480" y="1359000"/>
            <a:ext cx="3485880" cy="4446360"/>
          </a:xfrm>
          <a:prstGeom prst="rect">
            <a:avLst/>
          </a:prstGeom>
          <a:ln w="0">
            <a:noFill/>
          </a:ln>
        </p:spPr>
      </p:pic>
      <p:sp>
        <p:nvSpPr>
          <p:cNvPr id="157" name="矩形 4"/>
          <p:cNvSpPr/>
          <p:nvPr/>
        </p:nvSpPr>
        <p:spPr>
          <a:xfrm>
            <a:off x="1906560" y="580536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Miles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796720" y="5732640"/>
            <a:ext cx="10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Dixon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局部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于初步开发、研究阶段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结肠癌，行结肠癌根治性手术并辅以化疗。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术后应如何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对癌症治疗缺乏信心和担心造口影响生活、工作、家庭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进行造口术后排便方式改变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缺乏有关手术前准备知识和造口术后护理知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癌肿慢性消耗、放化疗反应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：切口感染、吻合口瘘、出血、造口并发症及肠粘连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60960" indent="-2541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18309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泻法、灌肠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24160" indent="-203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口服肠道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17000" indent="-203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陈述大肠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大肠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明大肠癌患者出现典型症状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结肠癌、直肠癌不同手术方式的特点及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大肠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开放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使用造口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9" name="Picture 22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664000" cy="38574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3" descr=""/>
          <p:cNvPicPr/>
          <p:nvPr/>
        </p:nvPicPr>
        <p:blipFill>
          <a:blip r:embed="rId2"/>
          <a:stretch/>
        </p:blipFill>
        <p:spPr>
          <a:xfrm>
            <a:off x="3276720" y="1773360"/>
            <a:ext cx="2735280" cy="3971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4" descr=""/>
          <p:cNvPicPr/>
          <p:nvPr/>
        </p:nvPicPr>
        <p:blipFill>
          <a:blip r:embed="rId3"/>
          <a:stretch/>
        </p:blipFill>
        <p:spPr>
          <a:xfrm>
            <a:off x="6012000" y="2330280"/>
            <a:ext cx="2923920" cy="2743200"/>
          </a:xfrm>
          <a:prstGeom prst="rect">
            <a:avLst/>
          </a:prstGeom>
          <a:ln w="0">
            <a:noFill/>
          </a:ln>
        </p:spPr>
      </p:pic>
      <p:sp>
        <p:nvSpPr>
          <p:cNvPr id="182" name="矩形 4"/>
          <p:cNvSpPr/>
          <p:nvPr/>
        </p:nvSpPr>
        <p:spPr>
          <a:xfrm>
            <a:off x="1119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一件式造口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5"/>
          <p:cNvSpPr/>
          <p:nvPr/>
        </p:nvSpPr>
        <p:spPr>
          <a:xfrm>
            <a:off x="3384720" y="551988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便袋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矩形 6"/>
          <p:cNvSpPr/>
          <p:nvPr/>
        </p:nvSpPr>
        <p:spPr>
          <a:xfrm>
            <a:off x="6264360" y="544680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两件式造口袋（底盘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造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造口及其周围常见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缺血坏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狭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造口回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造口患者造口开放后取造口侧卧位，腹壁切口与造口之间用塑料薄膜隔开，敷料渗湿后及时更换，防止造口排泄物污染腹壁切口；密切观察切口有无红、肿、热、痛等感染表现；会阴部有切口的患者，可在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锰酸钾温水坐浴，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；预防性应用抗生素；合理安排换药次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和处理术后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措施：术前做好充分的肠道准备；改善患者的营养状况；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内禁忌灌肠，以免影响吻合口的愈合；术后严密观察患者变化，一旦发生吻合口瘘，应禁食、胃肠减压，行腹腔或盆腔持续引流，并保持引流通畅，同时给予肠外营养支持。必要时要做好急症手术的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有家族史、疑有大肠癌及癌前病变者，建议定期进行检查，如粪便隐血试验、内镜检查等，做到早诊断，早治疗；积极治疗和预防结直肠的各种慢性炎症及癌前病变；注意个人卫生及饮食，多吃新鲜蔬菜、水果，避免高脂肪、低纤维素饮食；预防和治疗血吸虫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调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患者情况选择合适的饮食，保肛手术者应多吃新鲜蔬菜、水果，多饮水，应避免高脂肪及辛辣、刺激性食物；行造口者，避免摄入容易引起便秘或腹泻的食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适量锻炼，保持生活规律，心情舒畅，尽快融入日常生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灌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的是清洁肠道，养成定时排便习惯。首先，连接好灌洗装置，在集水袋内装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温水，要经灌洗管道缓慢灌入造口内，灌洗时间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。灌洗液完全注入后，在体内尽量能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，再打开灌洗袋，排空肠内容物。灌洗期间注意观察，若有不适应立即暂停。灌洗间隔时间为每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或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，时间应相对固定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定期到门诊复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不明确，相关因素有饮食习惯、癌前病变、遗传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结肠癌以排便习惯和粪便性状的改变、腹痛、肠梗阻、腹部肿块及全身症状等为主。直肠癌则以早期少量便血或排便习惯的改变、直肠刺激症状、肠腔狭窄、粘液血便和癌肿转移引起的症状等为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切除为主，辅以化疗、放疗等综合治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术前应做好患者的心理护理、营养支持、肠道准备和其他术前准备。术后重点做好造口护理，保持皮肤清洁，预防感染及并发症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colon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和直肠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carcinoma of rectum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总称为大肠癌，为常见的消化道恶性肿瘤之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3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无明显诱因出现排便次数增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不成形，间歇带暗红色血迹，有中、下腹隐痛，进食可。近日明显乏力，体重下降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既往体健，家族中无类似疾病患者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8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30/86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身体状况稍差，结膜苍白。右下腹可触及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质韧包块，边界不清，可推动，移动性浊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-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其余未发现异常。直肠指诊未见异常及包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辅助检查：粪便潜血试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+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WBC 4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86g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EA 42ng/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的护理评估有哪些内容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排便习惯及粪便性状的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癌以全身症状、贫血、腹部肿块为主要表现；左半结肠癌临床表现以肠梗阻、便秘、腹泻、便血等为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黏液血便：是直肠癌最常见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直肠刺激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腔狭窄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转移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粪便潜血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诊断直肠癌最重要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.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钡剂灌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癌胚抗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arcino-embryonic antigen, CE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进食高蛋白、高脂肪、低纤维素及油炸腌制的食物等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结肠腺瘤、溃疡性结肠炎、结肠血吸虫病肉芽肿等病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中有无遗传性非息肉性结肠癌、家族腺瘤性息肉病、大肠癌及其他肿瘤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大肠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癌根治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横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左半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单纯乙状结肠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结肠癌并发急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29:10Z</dcterms:modified>
  <cp:revision>111</cp:revision>
  <dc:subject/>
  <dc:title>内科护理学</dc:title>
</cp:coreProperties>
</file>